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32F-EE56-4BB3-85B1-241F8567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19D-31AB-454B-B91D-624FC5A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6CC-E8D0-41FD-AC8E-3033BE1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961-BC8B-42CD-8BA5-5C513F5B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FB75-6A85-4DE7-9A1B-032DD09E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370-7FAE-4A80-AB2D-E838CA4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2780-C012-4268-9744-5B82A21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21B-4F4E-4B18-B61A-3D87A8CC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5752-E9D8-4BF1-B7BD-CFEB4BCF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C215-D474-47FD-838E-EABB01E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5DB-FB21-42D9-AD60-84B517C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DAE-D436-4ECA-871D-4B6CF857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0C8D-B5F5-4F93-92FD-7F9FDB9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07B-7B51-4864-8402-0ECCEC4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E9A-D4D9-40EE-BD97-846BFEB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2E9D-141E-41A6-8863-BEDEF5E6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C553-01E6-4BE8-A9A6-AE4FB1F5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318-8EAA-4FAC-A155-9E93A4B7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B36-6FCC-445D-847B-3387ABE5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422-67F2-4808-953C-D903C23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D23-C4DE-493F-8A0B-BA6385EE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7C4-E493-45CD-9D02-EE71C2D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03A-CD16-41D4-8905-595CE1F9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18B-B9B4-4D6B-942C-43D466E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AB5-F92E-4416-99F8-9062F9C968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22C-2B90-4AB7-BEA7-F1090EFC0C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3128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260280"/>
            <a:ext cx="88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резентация школьного урока о русской выхухоли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   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для детей 11-1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еста  обитан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е угодья лесной зоны. Это  глубокие,  речные заводи с очень слабым течением. Небольшие озера (глубина 2-3 м.) с высокими берегами и хорошо развитой прибрежной и водной растительностью, богатой фауной беспозвоночных. В таких озерах устойчив уровень воды, они не пересыхают летом и не промерзают зимой, а берега удобны для строительства н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йменный лес создает определенный микроклимат в пойме, способствует благоприятному гидрорежиму водоемов. В период весенних разливов он, к тому же, выполняет защитные функ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29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3621240"/>
            <a:ext cx="468000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обенности строения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отное валикообразное тело (450 г.),длина около 20 см, короткая малоподвижная  шея, голова конусовидной формы с длинным подвижным хоботком, сплющенный с боков  чешуйчатый хвост. В 1-1,5 см от его основания располагается подхвостовая железа,  выделяющая вещества с резким мускусным запахом.Секрет подхвостовой  железы используется зверьком для мечения территории. Лапки небольшие пальцы соединены  плавательными перепонк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932360" cy="26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89600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Глаза маленькие, зрение слабое. Ушные раковины отсутствуют, но слух хороший. При погружении в воду ушные щели механически закрываются, а носовые отверстия замыкаются специальными  клапанами. Мех густой, шелковистый и блестящий; на спине буроватый, на горле, груди и брюшке –серебристо – белый. Структура волосяного покрова позволяет удерживать значительное количество воздуха, когда зверек находится в воде. Это обеспечивает ненамокаемость меха при плавании зверька, что очень важно для его теплорегуляции и гидродинам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52927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раз жизни хоху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720" y="1341360"/>
            <a:ext cx="4067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верек прекрасно плавает, при нырянии задерживает дыхание на 5 минут. Выхухоль очень осторожна. Если повезет, рано утром или поздно вечером можно заметить торчащий из воды хоботок или голову высунувшегося подышать живот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521964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Взаимоотношения с соседям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74160" y="0"/>
            <a:ext cx="69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9228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Не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Лисица,выдра,горностай,хорь, ондатра и др. хищные звери – уничтожают зверьков, их норы, кормовую б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Благоприятны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выхухоль поедает брюхоногих моллюсков, котрые являются промежуточными хозяевами трематод. Таким  образом  защищает бобров от гельми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Рыбаки избегают ставить сети в районе бобровых поселений. Они портят снасти. Это спасает выхухоль от попадания в сети, от гиб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хухоль – индикатор эколоического благополуч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43528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охуля всеядна. Охотнее всего поедает пиявок, моллюсков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чинок насекомых, дождевых червей, мелких рыбешек, а также различные растительные корм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2592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514836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Размножение выхухол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6000" y="691920"/>
            <a:ext cx="44276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о взрослой популяции русской выхухоли самцы и самки представлены примерно поровну. Размножается в течение всего года. Приплод появляется в первые летние месяцы и осенью. Во время половодья Зверьки издавая своеобразные звуки, гоняются друг за другом, спарива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Беременность длится 45 – 50 дней. В начале лета появляются хохулята (до 5 в помете), голые, слепые, беззубые. В это время мать проявляет большую заботу о детях. Больше месяца кормит их молоком. К 8 -10 месяцам они переходят к самостоятельной жиз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9467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7 году в России ввели запрет на добычу выхухоли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 факторы негативно влияют на популяции этого зверь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окращение численности выхухоли связано с воздействием антропогенных фактор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0 – 1980 г. Загрязнение и сельскохозяйственное освоение речных пой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1 век- массовое незаконное использование ставных лесочных сетей и электроудоч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регулирование стока р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стройка берегов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здание водохранилищ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ас скота вблизи водое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ждение туристов и рыболов – любите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Основные причины бедственного положения выхухоли – использование рыбаками ставных сетей.  Запутавшись в них она погибает через 5 минут. Современные сети прочны и долговечны, брошенные или забытые в водоемах превращаются в “конвейер” по уничтожению зверьк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48120" cy="2952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3716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ff"/>
                </a:solidFill>
                <a:latin typeface="Arial"/>
              </a:rPr>
              <a:t>Выхухоль – символ русской природы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лный запрет на промысел выхухоли не решит проблему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50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альная помощ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пространение на радио, телевидение, в бумажных видах СМИ и сети Интернет социальной рекламы, посвещенной угрозе вымирания русской выхухоли вследствие широкого использования населением лесочных сетей и электроудоче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 допускать рекламу запрещенных орудий лова рыбы во всех средствах СМИ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роться с продажей незаконных орудий лова рыбы и их использов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ff"/>
                </a:solidFill>
                <a:latin typeface="Arial"/>
              </a:rPr>
              <a:t>Ребята!!! Вам симпатичен этот зверек?</a:t>
            </a:r>
            <a:r>
              <a:rPr b="1" i="1" lang="en-US" sz="44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0766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ff"/>
                </a:solidFill>
                <a:latin typeface="Verdana"/>
              </a:rPr>
              <a:t>Подключайтесь к спасению  уникального зверя !!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Запомните сами, расскажите другим!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дясь на берегу водое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шумите, не разводите костры в неположенном месте;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овите рыбу только разрешенными снаст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бирайте за собой мусо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4956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сли в вашей местности водится этот удивительный зверек,  организуйте патрулирование прибрежной зоны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становите информационные щиты для отдыхающих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влекайте обществен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543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Мы за них в ответе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Garamond"/>
              </a:rPr>
              <a:t>Русская выхухоль малочисленный, реликтовый вид водных млекопитающих. Основные места обитания находятся в Европейской части России  Это единственное  млекопитающее в названии которого  фигурирует слово “русская”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есто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ы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и с системе органического мир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9640" y="227664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14127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40360" y="1052640"/>
            <a:ext cx="638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Царство: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Тип: Хорд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Класс: 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Отряд: Насеком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Семейство: Выхухо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Род: Выхухо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Вид: Выхухоль рус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(Desmana moschata L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97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Место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выхухо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ли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системе органиче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мира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800000" cy="820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653000"/>
            <a:ext cx="946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Этот забавный и чрезвычайно симпатичный зверек является одним из древнейших млекопитающих, который обитает в Евразии вот уже 5 млн.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56680"/>
            <a:ext cx="76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аши дни основная часть популяции выхухоли обитает в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оссии – в основном в бассейнах рек Волги 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на, в меньшей степени – в бассейнах рек Днепра, Урала, Уй и Тобола.  Кроме России выхухоли обитают еще в Казахстане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краине и Белоруссии, но и там их совсем нем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12061800" cy="769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16000" y="486900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3860640"/>
            <a:ext cx="1296720" cy="6494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826920" y="2997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55897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840000">
            <a:off x="395280" y="386064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-72720" y="50479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26560" y="333360"/>
            <a:ext cx="7264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а, Волги, Урала и ее ареал был более широким и сплошным, чем современны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1970 г. На территории России обитало около 69 тыс. выхухолей. Однако с этого времени численность зверьков и область их распространения стали резко сокращаться, из – за чего вид был включен в Красную книгу России, а также в Красную книгу Всемирного союза охраны природы. (МСОП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годня осталось только 25 тыс. хоху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468720" y="1628640"/>
            <a:ext cx="9155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07:48Z</dcterms:created>
  <dc:creator>Katya</dc:creator>
  <dc:description/>
  <dc:language>en-US</dc:language>
  <cp:lastModifiedBy>Natasha Novoselova</cp:lastModifiedBy>
  <dcterms:modified xsi:type="dcterms:W3CDTF">2009-10-25T03:15:11Z</dcterms:modified>
  <cp:revision>13</cp:revision>
  <dc:subject/>
  <dc:title>Русская выхухоль - чудо природы</dc:title>
</cp:coreProperties>
</file>